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0CC-9149-415D-88EE-8D666D39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BE1-E43E-4E79-ACB7-44DECFA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F7E-6D93-434D-B442-F06E1DC6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61B-69A2-469A-901C-C8E0D946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89E6-CB40-4EB8-AB5C-6F05BA12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2565-5A27-4DAE-A2E9-FC27D11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4D3A-F974-42E0-8EF3-E01A7B36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402A-93F5-403C-9A52-B13E6FF1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944C-75A4-4C3D-AA87-90431EC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853A-966D-48F2-BA43-7EF5FF32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EC7C-9414-4A7A-8E31-60C4A750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D13-7F1E-40B0-A543-67D06DD7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BA25-A691-4E16-8A8B-F391A21D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C4D2-0836-40C1-ABE3-EB070C1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F719-4C8A-4CE9-95CC-4762ED3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8451-BD75-49CD-94EE-C371B4BE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8E72-ECF8-4C9A-9CBB-95674C1F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6DA-AA4E-42A5-8C9F-0A51196C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313-1387-4634-A0F3-228F5C66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5B9-DB13-4F5F-AC07-902DADE8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DA9-2480-4E2E-A326-74EB5551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156-DC2F-411D-856D-60E40DE0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019-72C9-4EC8-BBC7-3A01D26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18E-CC8E-4368-ACBC-B0082CC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D7C1-2C9C-4C7F-B691-62B195057DC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635-AFB9-4AA0-8DDE-69A80D829F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riting Goals/Objectiv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effective communi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d teachers in developing learning strategies and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 thinking about 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1240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ting Criterion Level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erion levels can be stated many different way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items corr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centage of ite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ed cor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ion within certain time li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ion within certain degree of accur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sion of essential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5562720" y="2747880"/>
            <a:ext cx="223668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 summary…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s/objectives consist of the following component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able stud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eria/criter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a Goal/Objectiv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I students will correctly use in written sentences pairs of subjects and regular -ar verbs in the present tense with 9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grade science students will correctly explain all of the steps of the scientific method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 of a Goal/Objectiv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grade geography students will identify the seven continents on an unlabeled map of the world with 100% accuracy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046400" y="3809880"/>
            <a:ext cx="2583000" cy="1893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9672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f you are asked to explain the difference between goals and objectives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ene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tements stating in vague term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, comprehe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st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the behavior expected of a student at the end of an instructional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, the student                             will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50 states of                             the United Sta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964120" y="3505320"/>
            <a:ext cx="2265480" cy="177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967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f you are asked to explain the difference between goals and objectives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asura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tements indicating the behavior expected of a student at the end of an instructional perio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 verbs are used because they are measurabl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The student will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is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50 states of the United Sta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riting Goals/Objectiv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/objectives indicate the intent, end result, or competency desired in a student at the end of an instructional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be written in term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ud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havio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be written as clearly as possible so there’s no doubt what the lesson’s goal 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arts of a Goal/Objectiv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tate as specifically as possible who the student i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bservable student behavi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action verb specifying the learning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riterion/Crite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level of proficiency to be performed as indicative of “mastery” of the behavio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arner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of learners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grade scienc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grade geography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igh school biology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igh school Algebra I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inth grade English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bservable Student Behavior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 has to be written in observable/measurable terms, us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bs. Do NOT use verb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st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mprehe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er to the list of verbs in the handout about the cognitive taxonom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wo or more evaluators observed a student’s performance, would they agree that he/she had demonstrated the learning outcom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Observable Student Behavio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nth grade English students wil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rrect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dentif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ive parts of an ess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886120" y="3352680"/>
            <a:ext cx="35146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ting Criterion Level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erion level of acceptable performance specifies the level of achievement expected of the student to indicate “mastery” of the instructional objec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nth grade English students will correctly identif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ive parts of an ess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1-09-02T19:27:04Z</cp:lastPrinted>
  <dcterms:modified xsi:type="dcterms:W3CDTF">2013-09-04T18:21:43Z</dcterms:modified>
  <cp:revision>265</cp:revision>
  <dc:subject/>
  <dc:title>Slide 1</dc:title>
</cp:coreProperties>
</file>